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0.jpeg" ContentType="image/jpeg"/>
  <Override PartName="/ppt/media/image30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513-AC3B-4C67-8840-595BD109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D81-495B-4115-A7CE-866AE1E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ED3-9EC8-439F-97AD-39A3B8B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97B-FF3D-41A3-A29A-C626CF2C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81D-DB0C-4D8C-9161-CBE55ECA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5F3-AD1A-4F3B-8248-2694E660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C1A7-12E4-40A6-895A-78DE05EC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973-888C-4758-8EEB-2BF9A6D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621C-65DB-4CD0-82FA-EAB4D2C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B9A7-3C70-4089-A76C-6E804A83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18C-7DDE-464A-930B-542D049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AD6-1C1F-4895-A3A4-EB2703D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175-D258-4F37-B2F5-3F98F8E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F6DF-98D1-4AAB-9643-FB3E3DE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984-4E4B-45E7-8D7A-9EC9665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45D2-6378-40FA-AE29-BE03F855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1F10-23F3-4617-98BE-2FD8CA90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5F1-FDDE-4DAE-A45C-B5FED41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D3A-B954-433A-BCE0-161D8B8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E74-C8F4-4811-AD90-7E2D10EE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0F8-E2C6-4570-8A3E-5336A9B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F05-07A1-459D-B277-A4D7CFE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4AD-69DD-4F44-AC72-3430D16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414-E9F6-4956-AF30-102048D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641-3F51-402F-AA5D-B38ECE67DE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3CD-F5D3-432B-B6AD-49381E8D05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4360" y="966240"/>
            <a:ext cx="720072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пециальные условия для  получения образования студ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 нарушениями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785880"/>
            <a:ext cx="8642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еличения срока получения образования студентов с нарушениями слуха, но не более чем на 6 месяцев по профессиям СПО, на 10 месяцев по специальностям С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обучения, исходя из их доступности для обучающихся с ОВЗ, использование практико-ориентированного (дуального) обучен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учебных планов и индивидуальных граф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учении  студентов с нарушениями слуха электронное обучение и дистанционные образовательные технологии должны предусматривать возможность приема - передачи информации в доступных для ни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образовательной программы образовательная организация должна предусматривать включение адаптационных дисциплин, обеспечивающих коррекцию нарушений развития и социальную адапт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нарушениями слуха выбор мест практик должен учитывать состояние здоровья и требования по доступ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 должны быть обеспечены печатными и (или) электронными образовательными ресурсами в формах, адаптированных к ограничениям их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екущего контроля успеваемости, промежуточной и государственной итоговой аттестации обучающихся с учетом индивидуальных особе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ебования к адаптации образовательных программ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етодическая основа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азработки</a:t>
            </a:r>
            <a:br>
              <a:rPr sz="2400"/>
            </a:b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даптированной образовательной программы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42856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ИСЬМО" МИНПРОСВЕЩЕНИЯ РОССИИ ОТ 09.11.2022 N 05-1999 "О НАПРАВЛЕНИИ ИНФОРМАЦИИ" (ВМЕСТЕ С "МЕТОДИЧЕСКИМИ РЕКОМЕНДАЦИЯМИ ПО РАЗРАБОТКЕ (АКТУАЛИЗАЦИИ) И РЕАЛИЗАЦИИ ПРИМЕРНЫХ АДАПТИРОВАННЫХ ОБРАЗОВАТЕЛЬНЫХ ПРОГРАММ СРЕДНЕГО ПРОФЕССИОНА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арианты организации образовательного процесса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о АОП СПО для инвалидов и лиц с ОВЗ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АОП СПО для группы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с разными видами ноз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нескольких обучающихся каждого вида нозологий (нарушения слуха, нарушения зрен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й группе (до 25 чел.) обучаются несколько студентов с инвалидов и/или лиц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каждого обучающегося в соответствии с нозологией &lt;*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екомендации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внимания, разговаривая, смотрите на лицо слушающ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 мимики, жестов, чёткой артикуля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я простые, корот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снении профессиональных терминов – проведение словарной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звуковой информации пись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на доске используемых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2357280"/>
            <a:ext cx="8507160" cy="4500720"/>
            <a:chOff x="0" y="2357280"/>
            <a:chExt cx="8507160" cy="4500720"/>
          </a:xfrm>
        </p:grpSpPr>
        <p:sp>
          <p:nvSpPr>
            <p:cNvPr id="126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76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4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087560" y="2357280"/>
              <a:ext cx="7419600" cy="41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1151640" y="2421360"/>
              <a:ext cx="7236720" cy="39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9"/>
            <p:cNvSpPr/>
            <p:nvPr/>
          </p:nvSpPr>
          <p:spPr>
            <a:xfrm>
              <a:off x="1132920" y="2402280"/>
              <a:ext cx="7274880" cy="40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0" y="214200"/>
            <a:ext cx="8869320" cy="1857600"/>
            <a:chOff x="0" y="214200"/>
            <a:chExt cx="8869320" cy="1857600"/>
          </a:xfrm>
        </p:grpSpPr>
        <p:sp>
          <p:nvSpPr>
            <p:cNvPr id="135" name="Rectangle 13"/>
            <p:cNvSpPr/>
            <p:nvPr/>
          </p:nvSpPr>
          <p:spPr>
            <a:xfrm>
              <a:off x="0" y="214200"/>
              <a:ext cx="8441280" cy="126684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7830000" y="754920"/>
              <a:ext cx="1039320" cy="13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0" y="214200"/>
              <a:ext cx="88693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000080" y="2185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ДЕМОНСТРАЦИОННЫЕ РОЛИКИ С СУБТИТ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168120"/>
            <a:ext cx="9144000" cy="6689880"/>
            <a:chOff x="0" y="168120"/>
            <a:chExt cx="9144000" cy="6689880"/>
          </a:xfrm>
        </p:grpSpPr>
        <p:sp>
          <p:nvSpPr>
            <p:cNvPr id="140" name="AutoShape 3"/>
            <p:cNvSpPr/>
            <p:nvPr/>
          </p:nvSpPr>
          <p:spPr>
            <a:xfrm>
              <a:off x="499680" y="594468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D:\Инклюзия\Повышение квалификации\digimaster5000.jpg"/>
            <p:cNvPicPr/>
            <p:nvPr/>
          </p:nvPicPr>
          <p:blipFill>
            <a:blip r:embed="rId3"/>
            <a:stretch/>
          </p:blipFill>
          <p:spPr>
            <a:xfrm>
              <a:off x="0" y="3621600"/>
              <a:ext cx="1836360" cy="28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D:\Инклюзия\Повышение квалификации\IMG_20170116_182942.png"/>
            <p:cNvPicPr/>
            <p:nvPr/>
          </p:nvPicPr>
          <p:blipFill>
            <a:blip r:embed="rId4"/>
            <a:stretch/>
          </p:blipFill>
          <p:spPr>
            <a:xfrm>
              <a:off x="1979280" y="3506040"/>
              <a:ext cx="1376640" cy="29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9" descr=""/>
            <p:cNvPicPr/>
            <p:nvPr/>
          </p:nvPicPr>
          <p:blipFill>
            <a:blip r:embed="rId5"/>
            <a:stretch/>
          </p:blipFill>
          <p:spPr>
            <a:xfrm>
              <a:off x="3497400" y="4076280"/>
              <a:ext cx="3153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C:\Users\Gribanova\Desktop\09.10.2017 Фото оборудования по инклюзии\DSC_1240.JPG"/>
            <p:cNvPicPr/>
            <p:nvPr/>
          </p:nvPicPr>
          <p:blipFill>
            <a:blip r:embed="rId6"/>
            <a:stretch/>
          </p:blipFill>
          <p:spPr>
            <a:xfrm>
              <a:off x="3634560" y="1535400"/>
              <a:ext cx="28821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D:\Инклюзия\Повышение квалификации\krust-indigo.jpg"/>
            <p:cNvPicPr/>
            <p:nvPr/>
          </p:nvPicPr>
          <p:blipFill>
            <a:blip r:embed="rId7"/>
            <a:stretch/>
          </p:blipFill>
          <p:spPr>
            <a:xfrm>
              <a:off x="6477120" y="1489680"/>
              <a:ext cx="2666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D:\Инклюзия\Повышение квалификации\2018\vizualno-akusticheskoe-tablo-mng.jpg"/>
            <p:cNvPicPr/>
            <p:nvPr/>
          </p:nvPicPr>
          <p:blipFill>
            <a:blip r:embed="rId8"/>
            <a:stretch/>
          </p:blipFill>
          <p:spPr>
            <a:xfrm>
              <a:off x="7092360" y="3365640"/>
              <a:ext cx="165528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D:\Инклюзия\Повышение квалификации\2018\led-ticker-full_2.jpg"/>
            <p:cNvPicPr/>
            <p:nvPr/>
          </p:nvPicPr>
          <p:blipFill>
            <a:blip r:embed="rId9"/>
            <a:stretch/>
          </p:blipFill>
          <p:spPr>
            <a:xfrm>
              <a:off x="6228000" y="4996440"/>
              <a:ext cx="22860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4"/>
            <p:cNvSpPr/>
            <p:nvPr/>
          </p:nvSpPr>
          <p:spPr>
            <a:xfrm>
              <a:off x="293760" y="168120"/>
              <a:ext cx="8639640" cy="74412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ехнические средства обу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5" descr=""/>
            <p:cNvPicPr/>
            <p:nvPr/>
          </p:nvPicPr>
          <p:blipFill>
            <a:blip r:embed="rId10"/>
            <a:stretch/>
          </p:blipFill>
          <p:spPr>
            <a:xfrm>
              <a:off x="7902000" y="763560"/>
              <a:ext cx="103932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6"/>
          <p:cNvGrpSpPr/>
          <p:nvPr/>
        </p:nvGrpSpPr>
        <p:grpSpPr>
          <a:xfrm>
            <a:off x="96840" y="1469880"/>
            <a:ext cx="3258720" cy="1789200"/>
            <a:chOff x="96840" y="1469880"/>
            <a:chExt cx="3258720" cy="1789200"/>
          </a:xfrm>
        </p:grpSpPr>
        <p:pic>
          <p:nvPicPr>
            <p:cNvPr id="154" name="Picture 17" descr="D:\Инклюзия\1\Phonak-Roger-Inspiro.jpg"/>
            <p:cNvPicPr/>
            <p:nvPr/>
          </p:nvPicPr>
          <p:blipFill>
            <a:blip r:embed="rId11"/>
            <a:stretch/>
          </p:blipFill>
          <p:spPr>
            <a:xfrm>
              <a:off x="96840" y="1469880"/>
              <a:ext cx="10414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D:\Инклюзия\1\orig.jpg"/>
            <p:cNvPicPr/>
            <p:nvPr/>
          </p:nvPicPr>
          <p:blipFill>
            <a:blip r:embed="rId12"/>
            <a:stretch/>
          </p:blipFill>
          <p:spPr>
            <a:xfrm>
              <a:off x="1044720" y="1481760"/>
              <a:ext cx="125676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D:\Инклюзия\1\11840.jpg"/>
            <p:cNvPicPr/>
            <p:nvPr/>
          </p:nvPicPr>
          <p:blipFill>
            <a:blip r:embed="rId13"/>
            <a:stretch/>
          </p:blipFill>
          <p:spPr>
            <a:xfrm>
              <a:off x="2301480" y="1527480"/>
              <a:ext cx="1054080" cy="16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378000"/>
            <a:ext cx="9143640" cy="6480000"/>
            <a:chOff x="0" y="378000"/>
            <a:chExt cx="9143640" cy="6480000"/>
          </a:xfrm>
        </p:grpSpPr>
        <p:sp>
          <p:nvSpPr>
            <p:cNvPr id="158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"/>
            <p:cNvPicPr/>
            <p:nvPr/>
          </p:nvPicPr>
          <p:blipFill>
            <a:blip r:embed="rId3"/>
            <a:stretch/>
          </p:blipFill>
          <p:spPr>
            <a:xfrm>
              <a:off x="827280" y="1628640"/>
              <a:ext cx="7873200" cy="47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4"/>
            <a:stretch/>
          </p:blipFill>
          <p:spPr>
            <a:xfrm>
              <a:off x="150480" y="378000"/>
              <a:ext cx="86508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5"/>
            <a:stretch/>
          </p:blipFill>
          <p:spPr>
            <a:xfrm>
              <a:off x="8104320" y="981000"/>
              <a:ext cx="1039320" cy="103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785880" y="523080"/>
            <a:ext cx="7929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С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пециальные технические сред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система линей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 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акустическ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дио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технология передачи звука (FM-систе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комплекты электроакустического и звукоусиливающего оборудования с комбинированными элементами проводных и беспроводных систем на базе профессиональных усил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а-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йный 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интерактивные и сенсорные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39.jpeg" descr=""/>
          <p:cNvPicPr/>
          <p:nvPr/>
        </p:nvPicPr>
        <p:blipFill>
          <a:blip r:embed="rId1"/>
          <a:stretch/>
        </p:blipFill>
        <p:spPr>
          <a:xfrm>
            <a:off x="282600" y="2001960"/>
            <a:ext cx="8578800" cy="2854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1000080" y="573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ЛАНШЕТЫ ДЛЯ ОБЩЕНИЯ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РОГРАММА ИСТОК СИНХ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928800" y="1214280"/>
            <a:ext cx="7428960" cy="4643640"/>
            <a:chOff x="928800" y="1214280"/>
            <a:chExt cx="7428960" cy="4643640"/>
          </a:xfrm>
        </p:grpSpPr>
        <p:sp>
          <p:nvSpPr>
            <p:cNvPr id="169" name="AutoShape 3"/>
            <p:cNvSpPr/>
            <p:nvPr/>
          </p:nvSpPr>
          <p:spPr>
            <a:xfrm>
              <a:off x="1341360" y="5174280"/>
              <a:ext cx="4045320" cy="6832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1329840" y="5169600"/>
              <a:ext cx="3017880" cy="68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928800" y="5057640"/>
              <a:ext cx="28065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"/>
            <p:cNvPicPr/>
            <p:nvPr/>
          </p:nvPicPr>
          <p:blipFill>
            <a:blip r:embed="rId2"/>
            <a:stretch/>
          </p:blipFill>
          <p:spPr>
            <a:xfrm>
              <a:off x="928800" y="5054040"/>
              <a:ext cx="2783880" cy="80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3764160" y="3810960"/>
              <a:ext cx="170424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Freeform 8"/>
            <p:cNvSpPr/>
            <p:nvPr/>
          </p:nvSpPr>
          <p:spPr>
            <a:xfrm>
              <a:off x="3764160" y="3810960"/>
              <a:ext cx="1704240" cy="15447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2051280" y="4376160"/>
              <a:ext cx="161856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Freeform 10"/>
            <p:cNvSpPr/>
            <p:nvPr/>
          </p:nvSpPr>
          <p:spPr>
            <a:xfrm>
              <a:off x="2051280" y="4376160"/>
              <a:ext cx="161856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11" descr=""/>
            <p:cNvPicPr/>
            <p:nvPr/>
          </p:nvPicPr>
          <p:blipFill>
            <a:blip r:embed="rId5"/>
            <a:stretch/>
          </p:blipFill>
          <p:spPr>
            <a:xfrm>
              <a:off x="1457280" y="417924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12"/>
            <p:cNvSpPr/>
            <p:nvPr/>
          </p:nvSpPr>
          <p:spPr>
            <a:xfrm>
              <a:off x="1457280" y="417924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13" descr=""/>
            <p:cNvPicPr/>
            <p:nvPr/>
          </p:nvPicPr>
          <p:blipFill>
            <a:blip r:embed="rId6"/>
            <a:stretch/>
          </p:blipFill>
          <p:spPr>
            <a:xfrm>
              <a:off x="2462040" y="3127680"/>
              <a:ext cx="1387080" cy="10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14"/>
            <p:cNvSpPr/>
            <p:nvPr/>
          </p:nvSpPr>
          <p:spPr>
            <a:xfrm>
              <a:off x="2462040" y="3127680"/>
              <a:ext cx="1387080" cy="100548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5" descr=""/>
            <p:cNvPicPr/>
            <p:nvPr/>
          </p:nvPicPr>
          <p:blipFill>
            <a:blip r:embed="rId7"/>
            <a:stretch/>
          </p:blipFill>
          <p:spPr>
            <a:xfrm>
              <a:off x="19501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16"/>
            <p:cNvSpPr/>
            <p:nvPr/>
          </p:nvSpPr>
          <p:spPr>
            <a:xfrm>
              <a:off x="19501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17" descr=""/>
            <p:cNvPicPr/>
            <p:nvPr/>
          </p:nvPicPr>
          <p:blipFill>
            <a:blip r:embed="rId8"/>
            <a:stretch/>
          </p:blipFill>
          <p:spPr>
            <a:xfrm>
              <a:off x="3700080" y="2343600"/>
              <a:ext cx="784800" cy="14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8"/>
            <p:cNvSpPr/>
            <p:nvPr/>
          </p:nvSpPr>
          <p:spPr>
            <a:xfrm>
              <a:off x="3700080" y="2343600"/>
              <a:ext cx="784800" cy="14234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9" descr=""/>
            <p:cNvPicPr/>
            <p:nvPr/>
          </p:nvPicPr>
          <p:blipFill>
            <a:blip r:embed="rId9"/>
            <a:stretch/>
          </p:blipFill>
          <p:spPr>
            <a:xfrm>
              <a:off x="324288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20"/>
            <p:cNvSpPr/>
            <p:nvPr/>
          </p:nvSpPr>
          <p:spPr>
            <a:xfrm>
              <a:off x="324288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1" descr=""/>
            <p:cNvPicPr/>
            <p:nvPr/>
          </p:nvPicPr>
          <p:blipFill>
            <a:blip r:embed="rId10"/>
            <a:stretch/>
          </p:blipFill>
          <p:spPr>
            <a:xfrm>
              <a:off x="4766760" y="2341440"/>
              <a:ext cx="807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22"/>
            <p:cNvSpPr/>
            <p:nvPr/>
          </p:nvSpPr>
          <p:spPr>
            <a:xfrm>
              <a:off x="4766760" y="2341440"/>
              <a:ext cx="807480" cy="1428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3" descr=""/>
            <p:cNvPicPr/>
            <p:nvPr/>
          </p:nvPicPr>
          <p:blipFill>
            <a:blip r:embed="rId11"/>
            <a:stretch/>
          </p:blipFill>
          <p:spPr>
            <a:xfrm>
              <a:off x="484020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24"/>
            <p:cNvSpPr/>
            <p:nvPr/>
          </p:nvSpPr>
          <p:spPr>
            <a:xfrm>
              <a:off x="484020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5" descr=""/>
            <p:cNvPicPr/>
            <p:nvPr/>
          </p:nvPicPr>
          <p:blipFill>
            <a:blip r:embed="rId12"/>
            <a:stretch/>
          </p:blipFill>
          <p:spPr>
            <a:xfrm>
              <a:off x="5391360" y="3126600"/>
              <a:ext cx="142092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6"/>
            <p:cNvSpPr/>
            <p:nvPr/>
          </p:nvSpPr>
          <p:spPr>
            <a:xfrm>
              <a:off x="5391360" y="3126600"/>
              <a:ext cx="1420920" cy="1014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7" descr=""/>
            <p:cNvPicPr/>
            <p:nvPr/>
          </p:nvPicPr>
          <p:blipFill>
            <a:blip r:embed="rId13"/>
            <a:stretch/>
          </p:blipFill>
          <p:spPr>
            <a:xfrm>
              <a:off x="61315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8"/>
            <p:cNvSpPr/>
            <p:nvPr/>
          </p:nvSpPr>
          <p:spPr>
            <a:xfrm>
              <a:off x="61315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9" descr=""/>
            <p:cNvPicPr/>
            <p:nvPr/>
          </p:nvPicPr>
          <p:blipFill>
            <a:blip r:embed="rId14"/>
            <a:stretch/>
          </p:blipFill>
          <p:spPr>
            <a:xfrm>
              <a:off x="5564880" y="4376160"/>
              <a:ext cx="16585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30"/>
            <p:cNvSpPr/>
            <p:nvPr/>
          </p:nvSpPr>
          <p:spPr>
            <a:xfrm>
              <a:off x="5564880" y="4376160"/>
              <a:ext cx="165852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1" descr=""/>
            <p:cNvPicPr/>
            <p:nvPr/>
          </p:nvPicPr>
          <p:blipFill>
            <a:blip r:embed="rId15"/>
            <a:stretch/>
          </p:blipFill>
          <p:spPr>
            <a:xfrm>
              <a:off x="6624720" y="4179240"/>
              <a:ext cx="1194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reeform 32"/>
            <p:cNvSpPr/>
            <p:nvPr/>
          </p:nvSpPr>
          <p:spPr>
            <a:xfrm>
              <a:off x="6624720" y="4179240"/>
              <a:ext cx="119448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3" descr=""/>
            <p:cNvPicPr/>
            <p:nvPr/>
          </p:nvPicPr>
          <p:blipFill>
            <a:blip r:embed="rId16"/>
            <a:stretch/>
          </p:blipFill>
          <p:spPr>
            <a:xfrm>
              <a:off x="7499520" y="1214280"/>
              <a:ext cx="85824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ые образовательные потребности студентов с нарушениями слуха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Image 1" descr="https://ucarecdn.com/476ede8a-f952-4974-b5bb-f361647723d5/"/>
          <p:cNvPicPr/>
          <p:nvPr/>
        </p:nvPicPr>
        <p:blipFill>
          <a:blip r:embed="rId1"/>
          <a:stretch/>
        </p:blipFill>
        <p:spPr>
          <a:xfrm>
            <a:off x="536400" y="1600200"/>
            <a:ext cx="807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42960" y="80784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необходимость развития и использования остаточного слуха в образовательных, познавательных и коммуникатив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создание условий и возможностей для эффективного использования студентами данной категории слухо-зрительного, слухового и зрительного восприятия обращенной речи говорящего человека и различных форм коммун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восполнение недостатка знаний об окружающем мире, связанного с ограничением возмо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оциальной компетентности и навыков поведения в инклюзивном образовательном пространстве коллед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звитие потребностно-мотивационной 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пособности к максимально независимой жизни в обществе через профессиональное самоопределение, социально-трудовую адаптацию, активную и оптимистическую жизненную позици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едагогические принципы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использования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785880" y="2746440"/>
            <a:ext cx="7714800" cy="3754440"/>
            <a:chOff x="785880" y="2746440"/>
            <a:chExt cx="7714800" cy="3754440"/>
          </a:xfrm>
        </p:grpSpPr>
        <p:sp>
          <p:nvSpPr>
            <p:cNvPr id="93" name="AutoShape 9"/>
            <p:cNvSpPr/>
            <p:nvPr/>
          </p:nvSpPr>
          <p:spPr>
            <a:xfrm>
              <a:off x="1283760" y="5667120"/>
              <a:ext cx="4882320" cy="8337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269720" y="5661360"/>
              <a:ext cx="3642120" cy="83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1"/>
            <a:stretch/>
          </p:blipFill>
          <p:spPr>
            <a:xfrm>
              <a:off x="785880" y="5525280"/>
              <a:ext cx="338724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2"/>
            <a:stretch/>
          </p:blipFill>
          <p:spPr>
            <a:xfrm>
              <a:off x="785880" y="5520600"/>
              <a:ext cx="3359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3"/>
            <a:stretch/>
          </p:blipFill>
          <p:spPr>
            <a:xfrm>
              <a:off x="1990080" y="2746440"/>
              <a:ext cx="6510600" cy="344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857160"/>
            <a:ext cx="8843760" cy="6000840"/>
            <a:chOff x="0" y="857160"/>
            <a:chExt cx="8843760" cy="6000840"/>
          </a:xfrm>
        </p:grpSpPr>
        <p:sp>
          <p:nvSpPr>
            <p:cNvPr id="99" name="AutoShape 3"/>
            <p:cNvSpPr/>
            <p:nvPr/>
          </p:nvSpPr>
          <p:spPr>
            <a:xfrm>
              <a:off x="499680" y="5807160"/>
              <a:ext cx="4898520" cy="10504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485640" y="5799960"/>
              <a:ext cx="3654720" cy="10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628240"/>
              <a:ext cx="339876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622480"/>
              <a:ext cx="33714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3"/>
            <a:stretch/>
          </p:blipFill>
          <p:spPr>
            <a:xfrm>
              <a:off x="377640" y="857160"/>
              <a:ext cx="8466120" cy="51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: выделение основных сторон, признаков предметов и явлений; демонстрация пособий: сочетание реалистичных и схематичных изображений изучаем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чертежей, мод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методы обучения: отбор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ые конспекты, сх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видеофильмы с сурдопере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е учебные пособия по профессии/специаль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ные задания, адаптированный тек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мация с гиперссыл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модели, конструкторы, компьютерный и лабораторный практик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исьменных и устных средств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едставлять и защищать результаты свое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студентов в группов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языку  как средству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статочного слуха 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78d5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Коммуникативный принцип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00080" y="1143000"/>
            <a:ext cx="8042400" cy="4975200"/>
            <a:chOff x="1000080" y="1143000"/>
            <a:chExt cx="8042400" cy="497520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1000080" y="1500120"/>
              <a:ext cx="7549560" cy="46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8056440" y="1143000"/>
              <a:ext cx="986040" cy="90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500040" y="214200"/>
            <a:ext cx="7929720" cy="928800"/>
            <a:chOff x="500040" y="214200"/>
            <a:chExt cx="7929720" cy="928800"/>
          </a:xfrm>
        </p:grpSpPr>
        <p:sp>
          <p:nvSpPr>
            <p:cNvPr id="115" name="Rectangle 7"/>
            <p:cNvSpPr/>
            <p:nvPr/>
          </p:nvSpPr>
          <p:spPr>
            <a:xfrm>
              <a:off x="500040" y="214200"/>
              <a:ext cx="7929720" cy="92880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3"/>
            <a:stretch/>
          </p:blipFill>
          <p:spPr>
            <a:xfrm>
              <a:off x="2842200" y="500400"/>
              <a:ext cx="3263040" cy="43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6:13:07Z</dcterms:created>
  <dc:creator>.</dc:creator>
  <dc:description/>
  <dc:language>en-US</dc:language>
  <cp:lastModifiedBy>Лариса</cp:lastModifiedBy>
  <dcterms:modified xsi:type="dcterms:W3CDTF">2024-11-10T14:11:42Z</dcterms:modified>
  <cp:revision>190</cp:revision>
  <dc:subject/>
  <dc:title>Образовательных условия, учитывающие особые образовательные потребности обучающегося с нарушением слуха (глухота)</dc:title>
</cp:coreProperties>
</file>